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2FB-FE95-48DC-B2C0-902C9BDA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61A-6B41-423B-8C0C-C572473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A9E-D6F6-471B-BC24-16D27AEA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E79-7706-45F1-9019-90BC8E6B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24EF-ADFE-4181-9FE8-0CBC1202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C6B7-08F5-48BF-9A0E-62E490F3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1CB-84BA-4848-A23B-D28CF740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6D18-E2F4-4D81-841C-8B0D8B42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97F3-220F-48C3-9018-7476D33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843-2129-4ABC-B886-8F5A2BA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A7D6-B7B6-4180-ABF7-C2F6FCE3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9F1-F98B-435E-BC50-7A30A48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C3B4-D793-4498-B206-AAEBFD8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0385-F929-4A34-B8D7-46229E1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967-62FD-4640-A439-CFEA1F40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210-8CD8-4BCE-94E4-86B98029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41C5-7FC2-4B1D-901C-BCCBA85D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31A-C1D6-4807-B922-09E9A60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66A-98FB-4559-B030-A22CF9F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D2B-D36F-471C-B8D1-FA8EF43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79A-EDF1-4EB9-A09F-618767C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FB3-640B-49C1-9A4F-9320C2BC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D58-A4C2-441D-9A93-28E709C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12F-D0A0-4817-BFEA-FC2E4C0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9EE4-646C-4E9F-B605-DD67A9C71D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F19-10E6-4201-AE74-7F08F38209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www.ehow.com/angry-children/" TargetMode="External"/><Relationship Id="rId4" Type="http://schemas.openxmlformats.org/officeDocument/2006/relationships/hyperlink" Target="http://www.ehow.com/angry-children/" TargetMode="External"/><Relationship Id="rId5" Type="http://schemas.openxmlformats.org/officeDocument/2006/relationships/hyperlink" Target="http://www.ehow.com/angry-children/" TargetMode="External"/><Relationship Id="rId6" Type="http://schemas.openxmlformats.org/officeDocument/2006/relationships/hyperlink" Target="http://www.ehow.com/angry-children/" TargetMode="External"/><Relationship Id="rId7" Type="http://schemas.openxmlformats.org/officeDocument/2006/relationships/hyperlink" Target="http://www.ehow.com/angry-children/" TargetMode="External"/><Relationship Id="rId8" Type="http://schemas.openxmlformats.org/officeDocument/2006/relationships/hyperlink" Target="http://www.ehow.com/angry-children/" TargetMode="Externa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hyperlink" Target="http://primetime.unrealitytv.co.uk/categories/childrens-tv/page/2/ora%206.30.%203%20dec%202010" TargetMode="External"/><Relationship Id="rId4" Type="http://schemas.openxmlformats.org/officeDocument/2006/relationships/hyperlink" Target="http://primetime.unrealitytv.co.uk/categories/childrens-tv/page/2/ora%206.30.%203%20dec%202010" TargetMode="External"/><Relationship Id="rId5" Type="http://schemas.openxmlformats.org/officeDocument/2006/relationships/hyperlink" Target="http://primetime.unrealitytv.co.uk/categories/childrens-tv/page/2/ora%206.30.%203%20dec%202010" TargetMode="External"/><Relationship Id="rId6" Type="http://schemas.openxmlformats.org/officeDocument/2006/relationships/hyperlink" Target="http://primetime.unrealitytv.co.uk/categories/childrens-tv/page/2/ora%206.30.%203%20dec%202010" TargetMode="External"/><Relationship Id="rId7" Type="http://schemas.openxmlformats.org/officeDocument/2006/relationships/hyperlink" Target="http://primetime.unrealitytv.co.uk/categories/childrens-tv/page/2/ora%206.30.%203%20dec%202010" TargetMode="External"/><Relationship Id="rId8" Type="http://schemas.openxmlformats.org/officeDocument/2006/relationships/hyperlink" Target="http://primetime.unrealitytv.co.uk/categories/childrens-tv/page/2/ora%206.30.%203%20dec%202010" TargetMode="External"/><Relationship Id="rId9" Type="http://schemas.openxmlformats.org/officeDocument/2006/relationships/hyperlink" Target="http://primetime.unrealitytv.co.uk/categories/childrens-tv/page/2/ora%206.30.%203%20dec%202010" TargetMode="External"/><Relationship Id="rId10" Type="http://schemas.openxmlformats.org/officeDocument/2006/relationships/hyperlink" Target="http://primetime.unrealitytv.co.uk/categories/childrens-tv/page/2/ora%206.30.%203%20dec%202010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-67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EVALUARE                    INITIAL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39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at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vesel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peri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ruşin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2421141141" descr="Go to fullsize image"/>
          <p:cNvPicPr/>
          <p:nvPr/>
        </p:nvPicPr>
        <p:blipFill>
          <a:blip r:embed="rId1"/>
          <a:stretch/>
        </p:blipFill>
        <p:spPr>
          <a:xfrm>
            <a:off x="1116000" y="2205000"/>
            <a:ext cx="2529000" cy="316872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tiţ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rici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ruşin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urioas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671640" cy="367200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373840" y="6218280"/>
            <a:ext cx="4372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:/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www.ehow.com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angry-children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I INCEARCA!!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705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Doamn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rici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drăgosti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rprinsă/ mir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blend of fear expression with surprise expression"/>
          <p:cNvPicPr/>
          <p:nvPr/>
        </p:nvPicPr>
        <p:blipFill>
          <a:blip r:embed="rId1"/>
          <a:stretch/>
        </p:blipFill>
        <p:spPr>
          <a:xfrm>
            <a:off x="900000" y="2276640"/>
            <a:ext cx="3111480" cy="360036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Băieţelul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bucur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uri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5768280"/>
            <a:ext cx="873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:/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primetime.unrealitytv.co.uk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categories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childrens-tv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/page/2/ora 6.30. 3 dec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ânărul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bucur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ri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rusin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peri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partial fear expression "/>
          <p:cNvPicPr/>
          <p:nvPr/>
        </p:nvPicPr>
        <p:blipFill>
          <a:blip r:embed="rId1"/>
          <a:stretch/>
        </p:blipFill>
        <p:spPr>
          <a:xfrm>
            <a:off x="971640" y="2133720"/>
            <a:ext cx="3051000" cy="352728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mei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vesel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fricoş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urioas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3548817315" descr="Go to fullsize image"/>
          <p:cNvPicPr/>
          <p:nvPr/>
        </p:nvPicPr>
        <p:blipFill>
          <a:blip r:embed="rId1"/>
          <a:stretch/>
        </p:blipFill>
        <p:spPr>
          <a:xfrm>
            <a:off x="826920" y="2133720"/>
            <a:ext cx="3203640" cy="36716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ro-RO" sz="7200" spc="-1" strike="noStrike">
                <a:solidFill>
                  <a:srgbClr val="ffffcc"/>
                </a:solidFill>
                <a:latin typeface="Comic Sans MS"/>
              </a:rPr>
              <a:t>FELICITĂRI!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I INCEARCA!!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ânăra  este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vesel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peri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drăgostită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3548817315" descr="Go to fullsize image"/>
          <p:cNvPicPr/>
          <p:nvPr/>
        </p:nvPicPr>
        <p:blipFill>
          <a:blip r:embed="rId1"/>
          <a:stretch/>
        </p:blipFill>
        <p:spPr>
          <a:xfrm>
            <a:off x="900000" y="2276640"/>
            <a:ext cx="2727360" cy="312732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16000" y="21337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inerii sunt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ţ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riciţ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drăgostiţ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1"/>
          <a:stretch/>
        </p:blipFill>
        <p:spPr>
          <a:xfrm>
            <a:off x="179280" y="2492280"/>
            <a:ext cx="4248360" cy="254952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392720" cy="2921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google.ro/imgres?imgurl=http://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www.chicagonow.com/blogs/portr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Fetiţa din imagine est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 supărat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 fericit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 furioas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341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537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google.ro/imgres?imgurl=http://christians-picturesque-photography.ca/im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48:33Z</dcterms:created>
  <dc:creator>Carmen</dc:creator>
  <dc:description/>
  <dc:language>en-US</dc:language>
  <cp:lastModifiedBy>curs</cp:lastModifiedBy>
  <dcterms:modified xsi:type="dcterms:W3CDTF">2010-12-03T17:54:05Z</dcterms:modified>
  <cp:revision>6</cp:revision>
  <dc:subject/>
  <dc:title>EVALUARE                    INITIALA</dc:title>
</cp:coreProperties>
</file>